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E8E-878F-462F-BC73-9799C8CC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316-313C-46D6-801E-1E718588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D5D3-7C7F-4873-96B2-6EF51E9D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147-4603-437B-A7B1-0417414A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BBB6-54CB-44C6-8F4C-3CDBE822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84CA-54E0-4F87-B2FC-75C3D48D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3197-1196-42B3-8AA6-D8EE2FEE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73F2-0F2C-44A1-B339-1C24771C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4D3-F8D4-47B9-A7D7-2CE1594D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00D-C247-4380-B303-95E4FED2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404-6D10-4B99-BEAE-11E423A0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39B-5F9B-426B-9A58-19DCCDAF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60F5-3C10-40B9-B7E8-3ED2FCF87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What can you learn from these screen names?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ensburyskiier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byninfan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byjess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cerbo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mshockey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sonamy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5:44:54Z</dcterms:created>
  <dc:creator>cclancy</dc:creator>
  <dc:description/>
  <dc:language>en-US</dc:language>
  <cp:lastModifiedBy>cclancy</cp:lastModifiedBy>
  <dcterms:modified xsi:type="dcterms:W3CDTF">2008-10-24T15:45:28Z</dcterms:modified>
  <cp:revision>2</cp:revision>
  <dc:subject/>
  <dc:title>What can you learn from these screen names?  </dc:title>
</cp:coreProperties>
</file>